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241-A75B-42CB-A918-090B87C2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4E2-C047-40EA-A2F2-A4D5637E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105-5473-4690-B8A8-48902A7C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C65-7396-48BB-9211-781B3227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37E-D4BE-4715-AF52-C11394AB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40C-89DB-45B3-8FEB-49333854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965-0276-4D48-A7F0-EDDC5F08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E24-8DD5-4B2B-AFB7-21C9D3A5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0BB-3C92-4858-9488-8F39C890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17B-E78F-487F-855C-0855269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990-3720-47B9-8BC9-5867EAFD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D09-4B3F-4832-BB83-AA7FA9E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5E85-3FD3-4508-B589-15B881028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 Poet’s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e Questions – Complete the Response, and 1 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Literature:  What does Mr. Keating represent to the students of the Welton academy? (15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 – Choose 1 of 3: (200-30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o you see any parallels between the student’s life in Dead Poet’s Society and your ow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our discussion in class, “Is ‘Good’ teaching good?  Or should teaching remain the way it was in the p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me how you felt about the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0:57:18Z</dcterms:created>
  <dc:creator>nmt</dc:creator>
  <dc:description/>
  <dc:language>en-US</dc:language>
  <cp:lastModifiedBy>nmt</cp:lastModifiedBy>
  <dcterms:modified xsi:type="dcterms:W3CDTF">2012-05-03T02:56:31Z</dcterms:modified>
  <cp:revision>4</cp:revision>
  <dc:subject/>
  <dc:title>Dead Poet’s Society</dc:title>
</cp:coreProperties>
</file>